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11A-2B6A-47B4-87CD-B94EB86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C7D-EE03-4E39-8661-5810410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7DA-F95F-44F7-9FDA-25B27101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B0F-3BBD-4737-A97F-48D6510E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43D-A67C-4033-96FA-7544913F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F11-31A2-4D1A-85FD-4518F82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FAD-9135-441F-9E9D-D79502A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725-2D01-4698-93F3-4D48DEF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ED3-A044-4E70-995F-AA72F21D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774-4097-48F3-BBE7-5161459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519-BD14-4D31-A921-F9E6691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BA2-B3B5-469E-97FA-FE56D9CD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75A7-CD33-420D-AB8D-F367FEF6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qoyllur-tours.com/images/lima_center.jpg&amp;imgrefurl=http://www.qoyllur-tours.com/circuitos-peru/circuito-peru-bolivia-peru-circuitos-itinerario.php&amp;usg=__PECYTp24TaN0I-ERAlmRW90T794=&amp;h=480&amp;w=640&amp;sz=69&amp;hl=es&amp;start=4&amp;tbnid=86bi-FomIZ1r5M:&amp;tbnh=103&amp;tbnw=137&amp;prev=/images%3Fq%3Ddia%2Bde%2Blima%26gbv%3D2%26hl%3De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pe/imgres?imgurl=http://www.redperuana.com/fotos/antiguas/lima-peru.jpg&amp;imgrefurl=http://eyausomikbza.blogspot.com/2007_01_01_archive.html&amp;usg=__0piacpde6AKYgPRnxiIqo5dLA4s=&amp;h=739&amp;w=1102&amp;sz=115&amp;hl=es&amp;start=6&amp;tbnid=L4WOyT7s_4thKM:&amp;tbnh=101&amp;tbnw=150&amp;prev=/images%3Fq%3Ddia%2Bde%2Blima%26gbv%3D2%26hl%3Des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om.pe/imgres?imgurl=http://3.bp.blogspot.com/_rbbjU0aEDn8/R9hFKid2XoI/AAAAAAAAAQ8/vSLPJoe-0SY/s400/virgen_maria.jpg&amp;imgrefurl=http://cerebrosnolavados.blogspot.com/2008/03/intentan-ver-la-virgen-en-el-sol-y-se.html&amp;usg=__TvVg_HCgw7hPgALYJ_WiaQd2X3c=&amp;h=342&amp;w=300&amp;sz=12&amp;hl=es&amp;start=2&amp;tbnid=mFNaUWkJvDcWPM:&amp;tbnh=120&amp;tbnw=105&amp;prev=/images%3Fq%3Dvirgen%2Bmaria%26gbv%3D2%26hl%3Des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.pe/imgres?imgurl=http://www.seprin.com/portal/notas/virgen_maria.gif&amp;imgrefurl=http://www.seprin.com/portal/notas/gasalla.htm&amp;usg=__FvjwW9pqNLPB-UfP9IpwezHSFDk=&amp;h=480&amp;w=640&amp;sz=171&amp;hl=es&amp;start=4&amp;tbnid=NLHgj8ROx9rWqM:&amp;tbnh=103&amp;tbnw=137&amp;prev=/images%3Fq%3Dvirgen%2Bmaria%26gbv%3D2%26hl%3Des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.pe/imgres?imgurl=http://www.safahermanos.org/colombia/IMAGENES/VirgenMaria757ctv.gif&amp;imgrefurl=http://www.safahermanos.org/colombia/&amp;usg=__PfnDMg-uAxYb76QqrMcVQpsWDBA=&amp;h=682&amp;w=503&amp;sz=322&amp;hl=es&amp;start=1&amp;tbnid=AS1mDhFs70eYCM:&amp;tbnh=139&amp;tbnw=103&amp;prev=/images%3Fq%3Dvirgen%2Bmaria%26gbv%3D2%26hl%3Des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.pe/imgres?imgurl=http://recursos.fotocajon.com/enchulatupagina/img002/UlN539vTwipi.jpg&amp;imgrefurl=http://cid-479081e2ee27e772.spaces.live.com/blog/cns!479081E2EE27E772!3589.entry&amp;usg=__w--RcYtkr6JeGrb0JYe5GDgb5T8=&amp;h=484&amp;w=354&amp;sz=34&amp;hl=es&amp;start=11&amp;tbnid=PRRTQk4YW9B6nM:&amp;tbnh=129&amp;tbnw=94&amp;prev=/images%3Fq%3Dvirgen%2Bmaria%26gbv%3D2%26hl%3Des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google.com.pe/imgres?imgurl=http://www.mision-catolica-colonia-bonn.de/2_Colonia/Colonia_Fotos/Senior%2520de%2520los%2520Milagros/Senior%2520de%2520los%2520Milagros.jpg&amp;imgrefurl=http://www.mision-catolica-colonia-bonn.de/2_Colonia/Colonia_Paginas_html/MesMorado1.html&amp;usg=__4ql6lpGdrDhH7f7fNb6JEi6KdxU=&amp;h=400&amp;w=250&amp;sz=38&amp;hl=es&amp;start=2&amp;tbnid=_jCMgxdKt_DTCM:&amp;tbnh=124&amp;tbnw=78&amp;prev=/images%3Fq%3Dse%25C3%25B1or%2Bde%2Blos%2Bmilagros%26gbv%3D2%26hl%3Des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.pe/imgres?imgurl=http://sobre-peru.com/wp-content/uploads/2008/10/8_senor_de_los_milagrospreview.jpg&amp;imgrefurl=http://sobre-peru.com/2008/10/30/senor-de-los-milagros-festividad-religiosa/&amp;usg=__QI0njRVCS6Lbk02RXz18QahrRLk=&amp;h=428&amp;w=640&amp;sz=80&amp;hl=es&amp;start=4&amp;um=1&amp;tbnid=nlGlJ1pxvqrerM:&amp;tbnh=92&amp;tbnw=137&amp;prev=/images%3Fq%3Dse%25C3%25B1or%2Bde%2Blos%2Bmilagros%26hl%3Des%26sa%3DN%26um%3D1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.pe/imgres?imgurl=http://www.junin-peru.com/fotos/procesion-senor-milagros.jpg&amp;imgrefurl=http://www.junin-peru.com/calendario.php&amp;usg=__6Lu9smxg32wwQdOuFVcN8ErIObg=&amp;h=400&amp;w=460&amp;sz=36&amp;hl=es&amp;start=7&amp;um=1&amp;tbnid=Aq2DhzhVpMsctM:&amp;tbnh=111&amp;tbnw=128&amp;prev=/images%3Fq%3Dse%25C3%25B1or%2Bde%2Blos%2Bmilagros%26hl%3Des%26sa%3DN%26um%3D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he Celebrations of Li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360" y="5995800"/>
            <a:ext cx="460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By: César Torres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ff99"/>
                </a:solidFill>
                <a:latin typeface="Arial"/>
              </a:rPr>
              <a:t>The Day of 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In this celebrations have a party with gastronomic tasting, fashionable parades and artistic spect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This celebration is in January 18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60036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060640"/>
            <a:ext cx="288000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076640"/>
            <a:ext cx="3600720" cy="24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722840" y="62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9089E-006 L -0.48473 0.1590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3.51826E-006 L 0.44896 0.32501 E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249 L 0.0158 -0.4574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y of the Virgin Mary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ll do turn to leave our messages with our wishes at the well then this to the church's outskirts and comm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ta Rosa de Quives is the place where the Virgin Mar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4005360"/>
            <a:ext cx="2116080" cy="2367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860640"/>
            <a:ext cx="3240360" cy="243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765000"/>
            <a:ext cx="2592360" cy="25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360" y="1341360"/>
            <a:ext cx="3076560" cy="422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5000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6468E-006 L 0.45382 -0.00323 E"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6791E-006 L -0.39358 3.76791E-006 E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0065E-006 L -0.4132 0.00093 E">
                                      <p:cBhvr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Lord 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i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is Celebration is of the Lord of the Mir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e people are in procession with the dark purple habit and a white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ey elected gang will have the honour to carry the Lord of the Mir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437000"/>
            <a:ext cx="160164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907920"/>
            <a:ext cx="374328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580000" y="1700280"/>
            <a:ext cx="2816280" cy="374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076640"/>
            <a:ext cx="35290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9.57004E-007 L -0.49254 0.00023 E">
                                      <p:cBhvr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82016E-006 L 0.40157 -0.00462 E">
                                      <p:cBhvr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99723E-006 L 0.40573 0.00208 E">
                                      <p:cBhvr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53:32Z</dcterms:created>
  <dc:creator>XxCЄ$@®xX</dc:creator>
  <dc:description/>
  <dc:language>en-US</dc:language>
  <cp:lastModifiedBy>XxCЄ$@®xX</cp:lastModifiedBy>
  <dcterms:modified xsi:type="dcterms:W3CDTF">2009-06-08T04:20:56Z</dcterms:modified>
  <cp:revision>21</cp:revision>
  <dc:subject/>
  <dc:title>Lima</dc:title>
</cp:coreProperties>
</file>